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802-5617-4848-8FF4-EAD4EBED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F23-4F4E-4D50-9A3D-F1CC568D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1FD-ADB5-43E8-B701-A4C48DF5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08A-012E-42D8-96E9-FB8084B3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212-BCCD-4A10-8AA0-709C03FD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74B-66B7-42CC-9701-9FB7FB29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528-7AD8-46C7-8F4A-57A308A6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C9C-6FEB-46FA-BAAE-4B363B09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EA5-6E29-4DEE-905B-36A534CB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E58-0E1A-4601-866D-ECF0FE8A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CCF-175E-4DB6-B530-815157EF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2F1-31D4-4727-A80E-944FD3DA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C03F-82F2-4487-897A-E1D823A40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Clase 6nh (602)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3 de abril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53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ta tu amigo ho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pia y completa las oraciones con el verbo ‘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r’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‘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ar’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rena _______ muy bonita y có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iana y yo ___________ cont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 un muy buen alum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linda y Lucas _________  enfer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 no_________ antipático pero hoy yo _________ de mal hum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r y estar—caracteristica y condicion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haracteristics and Cond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s 2 ways of saying TO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:   SER and ESTAR. Each of these verbs has VERY DIFFERENT 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expresses a trait or a characteristic that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muchacho ES moreno. Él ES muy sin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edificio ES muy a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76276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R expresses a temporary state or conditon; a fe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an no ESTA bien hoy. ESTA enfer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La joven ESTA cans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ESTA nerviosa tam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6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7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429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80880" y="495288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8:22:23Z</dcterms:created>
  <dc:creator>Helen Zumaeta</dc:creator>
  <dc:description/>
  <dc:language>en-US</dc:language>
  <cp:lastModifiedBy>Helen Zumaeta</cp:lastModifiedBy>
  <cp:lastPrinted>2013-04-03T13:59:53Z</cp:lastPrinted>
  <dcterms:modified xsi:type="dcterms:W3CDTF">2013-04-03T18:23:13Z</dcterms:modified>
  <cp:revision>18</cp:revision>
  <dc:subject/>
  <dc:title>Slide 1</dc:title>
</cp:coreProperties>
</file>